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57A5-70BA-432A-94F5-3F7533BEC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58B4-BB19-49E4-8782-272DCDB01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EF96-2BE4-4B77-9B75-A579A3D21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23B9-BEBE-4552-B923-DD254BECA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9E0A-D01F-489B-B98E-13FC405BA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7184-EF49-401A-AF07-147F25FEE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AEB1-E4DE-4EE0-8F4D-9E703BB5EA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955C-9C38-46EC-92A3-AEF95DC06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BAF1-6227-4E15-AC5A-F411190534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D4B0-3270-496E-B0EA-783298852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1957-5FBE-4892-B23A-FE27521A66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9C8A-C80E-4246-90CE-898600111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F859-EBAF-4C9B-AA12-0A593E638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8A36-4B02-4A3B-A456-C17BA90D1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1737-9077-46C1-8E95-268D04EBCB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DF19-3927-4E04-929F-402760EDC7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4C52-3200-4940-B5F9-8AB20ED55D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336-FC10-4E9A-BE40-F3A3222C49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436-72E8-4991-882E-0AF53782BF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A28-53C5-42A7-A4B5-C7D1EF8CE8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2F8-ED7F-46AB-BBF6-BDA200AC09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9D0-CE1C-4F1F-8976-E621B1699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B66A-6889-43FC-B31F-BA670E503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22D-6E24-4FFC-81B1-A164883F05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983-691F-44F0-AA28-8AA17AC9D1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83F-2253-4BDE-B8AD-6E22763D36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F1D-A41B-4B4E-BCA8-1CA0B12729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583-571B-491F-9DAD-7B4F00D9B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5D3-692C-4B00-8147-4E5169F5C0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CD9-9CE2-430D-9814-60928A2004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9544A-9ABB-4AF2-BF75-1BA869118D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27FB1-4E12-4D79-8D3A-760985C036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7175F-B510-49FE-BF04-DB5C4143F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91DA-221F-4CA2-AC95-0D323BBB3E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8DB40-43CA-4404-9CC0-BB270E1BFD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7332-BB56-4B31-8F3D-A45E5F6AC4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6F03-5938-44E4-86E7-45EBC4ADFB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BF21E-EAB0-49D1-AAAD-9B085719CF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2508B-9A51-4CFA-ACBB-DBE31F0180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E0CCD-BC85-4353-93F2-E0BBA0A2D5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802A-EF59-4058-B841-7E35421176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72D98-C92B-44D4-8AA3-C12EE63440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7460E-F237-4B4C-8526-E0AB708BF4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B401-539F-49D1-B901-9341EFAB5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8162-93CE-4996-9026-2349B40A44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A9A96-958A-4798-A542-9FAC1B8D4D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EEC60-94A0-459F-B024-07CA4A211A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0D56-8306-4277-B298-51B15F009F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5E8FB-89FE-4C19-8669-618B750B79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92558-9D30-4951-A502-0057D95B15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938CB-FFE9-4188-A13F-7776726D24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693E-8DA2-4759-BFCF-8DD11CF05B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47347-4D59-41ED-BF1C-F28C4E2E51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F31AF-4EC1-41F3-8197-F7F0EEF4DD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6282F-AC9F-4D92-9B1A-D21EB0CC3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27C0-84AF-4B3E-96C4-4B075ED604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93BA-2DF2-4694-8641-065D18E96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F526-9DDD-425B-A7A1-6741DAE52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9DEC-23F2-4665-ADF1-5C1EF33BA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BCF8-51A3-4A3A-91BF-96AC22722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9D4-3543-47CE-A43B-4ACEE72B5660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C07-1E63-40EF-9CF3-2256DE793375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79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81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82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84" name="Line 7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2556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20D5-E4BB-4F4E-A923-A326607BA828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125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26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27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128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30" name="Line 7"/>
          <p:cNvSpPr/>
          <p:nvPr/>
        </p:nvSpPr>
        <p:spPr>
          <a:xfrm flipH="1">
            <a:off x="4570560" y="1692360"/>
            <a:ext cx="2880" cy="470844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4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C1E9-AAE4-4276-B07F-B9187FE00590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171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72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73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174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6" name="Line 7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601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99360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76480" indent="-1368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76480" indent="-13680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5"/>
          </p:nvPr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654-8406-48BD-BFAD-0BB7184E6ED1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17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18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19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20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22" name="Line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2556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9B4E-8AA1-44EE-9425-2B37EE38721E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329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d2533c"/>
                </a:solidFill>
                <a:latin typeface="Arial"/>
              </a:rPr>
              <a:t>TTCN-3 CONFORMANCE TEST SUITE STF 451 STATUS REPORT</a:t>
            </a:r>
            <a:endParaRPr b="0" lang="en-US" sz="4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Bogdan Stanca-Kaposta, TestingTechnologi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Andras Kovacs, BroadBi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93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94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95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96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98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123-E0CC-4431-9863-C06BB8CA10E3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Wrap up work will be finished by end of Ma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Draft deliverable available for commenting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re will be a continuous dialog with tool vendors regarding the analysis of observed error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pecial thanks to Elvior and TestingTech for the active tool support, which made the continuous validation of results possibl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27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28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29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30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32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C555-B3E1-4078-A6EB-ACC54B352852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dministra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ssion pla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maining STF451 wo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ssues reported as C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2533c"/>
                </a:solidFill>
                <a:latin typeface="Arial"/>
              </a:rPr>
              <a:t>Administrativ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92934"/>
                </a:solidFill>
                <a:latin typeface="Arial"/>
              </a:rPr>
              <a:t>1 STF Member retreated at beginning of STF (ISPRA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Andras Kovacs (BroadBit) covered the gap (no financial chang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4604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34"/>
                </a:solidFill>
                <a:latin typeface="Arial"/>
              </a:rPr>
              <a:t>We had to drop the Requirements coverage approach for this rele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34"/>
                </a:solidFill>
                <a:latin typeface="Arial"/>
              </a:rPr>
              <a:t>In order to provide and maintain the good quality of the AT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92934"/>
                </a:solidFill>
                <a:latin typeface="Arial"/>
              </a:rPr>
              <a:t>Overhead to learn and apply the tool without the expert was substantia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19280" indent="-18288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Nevertheless we fully support this approach and recommend to be used by next STF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Foliennummernplatzhalter 3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65B8-19AF-4B45-9461-6CB1BD227855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39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0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41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42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44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2B2-CF18-4B5E-AA92-4DE94A30E13A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ession pla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45680"/>
            <a:ext cx="8229600" cy="551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October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11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November: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24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1 week session at Testing Technologies in Berlin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December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10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January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20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February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10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April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4 days of work - done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May: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11 days of work - ongoing</a:t>
            </a:r>
            <a:br>
              <a:rPr sz="1300"/>
            </a:br>
            <a:r>
              <a:rPr b="0" lang="en-US" sz="13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1 day left with the scheduled STF451 sessions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92934"/>
                </a:solidFill>
                <a:latin typeface="Arial"/>
              </a:rPr>
              <a:t>Planned to spent another week on test case validation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48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49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50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51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52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53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6ABB-D69E-489F-8B65-B37BB91C5083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1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Fs objectives to cover at least 70% of the TTCN-3 core standard clauses was reached by far (~83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planned test cases have been writt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validation phase of ATS is almost don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able drafts made available as MTS#59 contribu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hile most of the planned test cases have been already written, their validation is ongo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table drafts of the documents and ATS are contributed to the MTS#59 meet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57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58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59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DD0-F766-4813-8A5E-C201CD4323B0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2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800" y="1142640"/>
            <a:ext cx="9194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ime spent on the following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test case development (extending ATS from STF433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292934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verage of differences between TTCN-3 ed. 4.3.1 and ed. 4.4.1. All changed or new clauses have been covered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292934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esting of previously non-covered sections (e.g. sections 9, 14, 21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292934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aking ‘on-hold’ test cases from STF433 into use, based on the resolution of CRs raised by the preceding STF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Validation and document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Validation with two independent TTCN-3 tools: TTWorkbench (nearly done) and Testcast (finished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tending of tooling for automated test execution for TestCast and TTworkbench. The automation tooling from STF433 has been extended with the following capabilities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3" marL="1044720" indent="-182880">
              <a:spcBef>
                <a:spcPts val="400"/>
              </a:spcBef>
              <a:buClr>
                <a:srgbClr val="93a2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xecution of external function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44720" indent="-182880">
              <a:spcBef>
                <a:spcPts val="400"/>
              </a:spcBef>
              <a:buClr>
                <a:srgbClr val="93a2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upport of various configurations (e.g. broadcast to ports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70040" indent="-182520">
              <a:spcBef>
                <a:spcPts val="400"/>
              </a:spcBef>
              <a:buClr>
                <a:srgbClr val="93a299"/>
              </a:buClr>
              <a:buSzPct val="8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reation of document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66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67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68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69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71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361-36DF-43F1-9708-4D743FD6BD19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urrent status (3/3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ATS validated with 2 tool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TTworkbench</a:t>
            </a:r>
            <a:r>
              <a:rPr b="0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	</a:t>
            </a:r>
            <a:r>
              <a:rPr b="0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compile-time and execution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TestCast</a:t>
            </a:r>
            <a:r>
              <a:rPr b="1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	</a:t>
            </a:r>
            <a:r>
              <a:rPr b="1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	</a:t>
            </a:r>
            <a:r>
              <a:rPr b="0" lang="en-US" sz="1900" spc="-1" strike="noStrike">
                <a:solidFill>
                  <a:srgbClr val="292934"/>
                </a:solidFill>
                <a:latin typeface="Arial Bold"/>
                <a:ea typeface="Arial Bold"/>
              </a:rPr>
              <a:t>compile-time and execution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otal number of conformance tests is </a:t>
            </a:r>
            <a:r>
              <a:rPr b="0" lang="en-US" sz="2200" spc="-1" strike="noStrike">
                <a:solidFill>
                  <a:srgbClr val="292934"/>
                </a:solidFill>
                <a:latin typeface="Arial Bold"/>
                <a:ea typeface="Arial Bold"/>
              </a:rPr>
              <a:t>1239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Majority of the core standard sections have been now covered: ~83%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All changes between the 2011 and 2012 editions of the TTCN-3 standard have been covered; tool vendors may validate their implementation of the latest features.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lnSpc>
                <a:spcPct val="80000"/>
              </a:lnSpc>
              <a:spcBef>
                <a:spcPts val="601"/>
              </a:spcBef>
              <a:buClr>
                <a:srgbClr val="29293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Statistics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positive syntax tests: 144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negative syntax tests: 82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positive semantic tests: 623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Number of negative semantic tests: 390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lnSpc>
                <a:spcPct val="80000"/>
              </a:lnSpc>
              <a:spcBef>
                <a:spcPts val="499"/>
              </a:spcBef>
              <a:buClr>
                <a:srgbClr val="292934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On hold: 24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75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6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77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78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80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142C-ADEE-46A4-98B9-54B98987C0B2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maining STF451 work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k to be done in May 2013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Validation of test cases by analyzing reason for unexpected results of some test cas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968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ublication of resul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"/>
          <p:cNvGrpSpPr/>
          <p:nvPr/>
        </p:nvGrpSpPr>
        <p:grpSpPr>
          <a:xfrm>
            <a:off x="0" y="220680"/>
            <a:ext cx="9144000" cy="228600"/>
            <a:chOff x="0" y="220680"/>
            <a:chExt cx="9144000" cy="228600"/>
          </a:xfrm>
        </p:grpSpPr>
        <p:sp>
          <p:nvSpPr>
            <p:cNvPr id="284" name="Rectangle 2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85" name="Rectangle 3"/>
            <p:cNvSpPr/>
            <p:nvPr/>
          </p:nvSpPr>
          <p:spPr>
            <a:xfrm>
              <a:off x="0" y="22068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86" name="Group 4"/>
          <p:cNvGrpSpPr/>
          <p:nvPr/>
        </p:nvGrpSpPr>
        <p:grpSpPr>
          <a:xfrm>
            <a:off x="0" y="0"/>
            <a:ext cx="9144000" cy="365040"/>
            <a:chOff x="0" y="0"/>
            <a:chExt cx="9144000" cy="365040"/>
          </a:xfrm>
        </p:grpSpPr>
        <p:sp>
          <p:nvSpPr>
            <p:cNvPr id="287" name="Rectangle 5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solidFill>
              <a:srgbClr val="93a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0" y="0"/>
              <a:ext cx="914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289" name="Text Box 7"/>
          <p:cNvSpPr/>
          <p:nvPr/>
        </p:nvSpPr>
        <p:spPr>
          <a:xfrm>
            <a:off x="8005680" y="23760"/>
            <a:ext cx="293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2F16-E597-4C85-9576-F28DAB906738}" type="slidenum">
              <a:rPr b="0" lang="en-US" sz="1400" spc="-1" strike="noStrike">
                <a:solidFill>
                  <a:srgbClr val="ffffff"/>
                </a:solidFill>
                <a:latin typeface="Calibri Bold"/>
                <a:ea typeface="Calibri Bold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andling reported CRs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2 CRs were written by STF433, and a number of related test cases have been put on-hol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221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 of these issues have been resolved except for one (CR #5987). Based on the resolution of these CRs, we checked through the on-hold test cases, and added some into the A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23:50:03Z</dcterms:created>
  <dc:creator>bzeiss</dc:creator>
  <dc:description/>
  <cp:keywords/>
  <dc:language>en-US</dc:language>
  <cp:lastModifiedBy>Bogdan Stanca-Kaposta</cp:lastModifiedBy>
  <dcterms:modified xsi:type="dcterms:W3CDTF">2013-05-13T00:17:58Z</dcterms:modified>
  <cp:revision>5</cp:revision>
  <dc:subject/>
  <dc:title>TTCN-3 Conformance Test Suite STF 409 Status Report</dc:title>
</cp:coreProperties>
</file>